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809A-B3D0-4C29-A31A-A435F47CBB2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5996-5BA4-4C3E-961E-686A23A19B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E69E-0781-4C2B-95C8-639E906A974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5598-B0B6-41B9-9902-7105930597B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F29D-3D4F-4DEF-A952-081DB42865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3CCD-BA95-4212-BEDA-5785579C55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2107-808F-4F6A-9A1D-76CA67F6F7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6A0A-C0EC-4121-9D56-D73C08DE4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7558-DE56-47C2-8C3A-40829017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4C5DB6-EFA6-4C28-BA3F-D6E2A162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274644-E241-410B-9BC9-37F107DD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860C3C-B349-4727-88D1-83EA09B5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0C9656-520D-46F8-A2B1-FCB167CF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0E3A97-0116-491F-B10F-6220C610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F8099D-7E06-4054-A5D4-B88F2350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CF0CA-09AF-4616-AF75-84B1BAE1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6B5F1C-82E6-4C13-97A8-2166B4332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9FED31-F672-4C27-A9C0-030F42C55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783919-6864-4414-8F20-AD8FD8AD9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899F-1FC7-4287-ABE9-EEC23CA23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3D88EB-EE92-425E-9BD0-13D02BDE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F1A5FF-D736-4843-B933-6BC2ECE4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E442BD-F96B-46F9-A472-E238B3A6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280BF5-4209-48C8-88E9-5E69975F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5233A8-1E58-4079-9490-F39EE674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25B03D-6915-4557-978A-B9DAD1B5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7FA48D-C781-454F-BC68-D3BBDC3A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DA6F7B-AAF1-4396-8184-CE52E36A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B52C77-84A2-45A5-9548-51B3B47E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4CF331-3D16-4DEF-9BBB-C55177D3B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52E6-F7F8-413D-BD6D-94A9F1522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BE51ED-94AF-4990-90B9-D4FEA8079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A14F7-EA42-4316-856B-D90283BF2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E2BD9-586C-401D-97EC-5D32D0C6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A49D71-9E86-4D17-A573-D3DE1BA4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D014C-BE13-4A97-8C0D-2722D6E7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EAF4A-C634-4097-A3F1-158C556C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75AB6B-E36B-411A-9633-9571AC0F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DAE7B7-2307-4974-9AE4-E3A011FD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68E11-46CD-430C-8661-99E53DC9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50D0C-E86A-4174-BBBA-36B20057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7E69-F825-42FC-93A4-D721A7F13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F0521-B0B4-423C-BA7C-74685F4D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2B10B-C2C4-4079-A11B-E4C2A39EB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524DC-1735-4330-810F-5DB9D69A3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D61ED9-3AFC-4536-93B9-B693B17A4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FED094-71F6-43C2-A934-1DD9FFA5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C25E9E-85B9-460E-A9CE-F7F05D9A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2B0EBD-4CB1-4FBF-B5CA-EB9B3204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CFD6A1-ABE4-491E-A69D-8F14AC1C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84269C-B7BA-4D23-BC66-9B1F3E49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C5F4E1-54F5-4A57-A569-B743ADF0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13965-0128-4E59-A64C-C4D51A89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5D6F2D-2EB7-439A-B87D-BF23F905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040C44-DF23-4B59-9D31-A17F0C2D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29318F-2E02-4507-9DCC-A18CAAD7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723C49-9FFF-445F-AC76-7D886BAB7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053E11-7848-462C-8DBA-887C8D4C2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57B70-C4C2-413F-9342-4BFA8D4F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BE79-24A4-4006-9415-15C05D3F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60B5-52D4-4DD0-A519-3899142E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BAB63-8ED6-4458-92FD-AF90D5EF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11176-C6E3-4B2E-B670-172EC7C3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6392-22D7-4A27-A39E-B1A8A38C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C013-3DCF-49DE-B704-42102308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281D-A4DD-48CC-B719-42904FD7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58E12-9F1F-4FA2-998F-4FF51063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BA90-DFE4-40DF-AF41-F4D8520A5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9CD6-08FA-402C-AC95-11AED24E4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2CD00-6D67-4D9F-9336-482C7DB27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CBF4D-BE3C-4784-9D8D-B03D8DD5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CBCCA-5710-47A6-8616-E5A56AB2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DBD5A-C955-4269-8218-4C1C7E63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1F099-52CB-40F5-865B-158AD425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AB9E-1610-4630-896C-8FFDD941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CFDA8-E40F-4128-B48F-A7369F42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805EA-AB00-4362-91AD-F989BB2A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55F86-69C2-4357-B5A6-1B008166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45149-B3E2-4305-8075-2377D956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B3C02-220E-4A3F-92FE-F18ACA6C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94AE3-593F-41CA-A356-7AFE6B51E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71CCB-9B93-4052-9862-054137AFA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77C03-5EE8-4B36-95F6-04521F986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B6377-BE28-499A-A822-1102B682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F87ED-B6A2-4A6F-97EA-9B255052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C3AD-EEFE-4BA3-AAA0-0B222770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69643-D5DD-4243-B10F-0A968CC2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DB3A9-BD88-4CAE-9FAC-57FC1693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FC1C9-3E06-462E-A5E3-72485374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65BAC-0E01-452D-9F8B-B3C51F2C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BED0F-0FA5-4629-B217-D7A6FB7F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C3D0F-18F4-4355-B9A7-7B19D753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15516-FC8D-4C77-9693-8F1ABFA8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E981B-5582-4FCC-8D5F-17E538454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8DC10-7FA0-4D34-86D9-179AC628E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E2F20-E0CA-4EB6-8B49-42A49B71E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3054-9473-4575-AA1F-44CE0BD6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3D2DF-A4E1-42F9-AA22-B2C01863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3F4A4-1CCF-40F9-9EE6-5DE40E33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2F9E6-EE66-421F-9B2B-0C779875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3AA34-27C7-4CD7-A0AE-EE72895B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1136D-E9D5-4288-8272-E03CC509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F3EFE-94FE-4652-8B84-B095192B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E838E-F29C-415E-A4D2-F24561D9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91C25-700D-4FF0-905D-60F64F24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2A210-47B2-4317-A0D6-E4EC022B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937E9-C96B-455E-B4BA-7DB23D094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111C-FBDA-44F1-AED3-0813BEF3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285DD-9B80-4905-A488-7DAE91803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162B5-9214-47D8-969B-F5E9EB5BC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6ECBB-9479-4C62-9BA0-1B19DB15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FC57A-C93D-49D9-94F6-C0C51467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5EE40-40E6-4AF4-9995-624A08E3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49463-3AFD-432D-AE39-0241FA98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38611-9D5C-4994-830C-EC8DB6BD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0D8E2-F782-41C7-8103-A08A5C9F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EDD40-3E44-4680-87FC-7228FE27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D3963-68F0-45A7-9A61-02D17F83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2029-852B-42BB-932A-60B59685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99624-6739-44EF-B18A-0190C1EF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DAE41-D9E3-4FFD-BAA9-D89E605CD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84F57-EF2D-4DB7-BF32-4C84DEB32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031E4-8F78-42B3-885C-FE021E324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3DDC6-6C89-4EDB-9C40-DBAB0E1E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DD403-3E8C-4908-85F3-4C953158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9394D-2A54-481A-BFC0-D610F146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E90AF-59A5-45A9-AD97-87B1D9F9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9FF3C-1F51-47C9-8239-D2909A03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CBF26-6815-49B9-9367-2D2988C9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DBF3-61C7-45EF-AA95-EB534AEC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EACA8-DDAF-4D84-95F0-FE9CC08E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AEE95-774E-4623-B660-3DF04129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D5305-CC88-4E66-B641-67D4D6CF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B2C5B-3B39-4670-8CC6-9608EE86E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30520-9512-440D-B9E9-7F3055030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A24A3-427E-4611-912B-84CD518AA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5C6C5-A121-498D-8720-51BB7C69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D2762-6418-4617-A2B6-05183BE2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DF541-7C07-4DCC-9EF9-95051D27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55911-8767-48AE-96EC-478564A8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F25A-0803-46E9-A1FC-F2D0552B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2E52A-0705-4C52-934C-4B23C2F5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8C941-3802-424D-87BE-1AFCB7CE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98112-6154-4928-846C-D9645132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87EEB-5399-499A-9384-5C43CF1F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78AEB-1567-449D-BFF7-76DB6219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CD2E5-6971-4BF1-9B90-14E6FF7A6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EB4B4-0787-4D10-8820-AF3C14228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A01C05-7E1B-43C0-A718-AC54EB701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C41B90-A358-4804-A9C3-353A18D6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418AB2-3F02-44C0-8E53-4F0D0FE2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6053-A1E0-4962-9FA3-E44D7A9E62BE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40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C4D4-54E4-48FE-B49C-5D4AA93526F0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45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B671-60BC-443E-8BD8-FDA5FDF85D6A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49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4358-85F9-43DE-AC09-29BCAB1C33B1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4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0038-3B1C-481E-8E1B-CD234304FE0E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9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6E24-B703-40CD-A7EF-74D3DF570363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13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E2F7-169A-4F10-9892-28D884BC68FB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18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008B-A6A0-442D-B257-AE3B3436DCED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22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48C5-6F8E-4643-B491-6D3002B5DEFB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27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A048-97DE-44E2-AB59-D72078822807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31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329C-36ED-46C1-88D5-313754F43C22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36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C374-6EBD-46C3-8B1A-C9E4BF564ECA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80880" y="2209680"/>
            <a:ext cx="8382240" cy="14702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Fare Payment System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1447920" y="44193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tio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al Program Oversight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23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4" descr="mtasymbolpms286"/>
          <p:cNvPicPr/>
          <p:nvPr/>
        </p:nvPicPr>
        <p:blipFill>
          <a:blip r:embed="rId1"/>
          <a:stretch/>
        </p:blipFill>
        <p:spPr>
          <a:xfrm>
            <a:off x="3835440" y="914400"/>
            <a:ext cx="128268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re pay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9B7D-DB80-4CFA-B14E-A476BCF05CC1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ation of bus r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ing commercial relationship with payments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way communications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TA-issued card &amp; reload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 from Metro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ffective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ving forward: Next 6 mon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detailed requirements for MTA-issued card and reload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Project Plan: requirements, cost estimate, schedule, procurement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payments industry negotiation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ize subway communications networks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System Integ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 hardware on Staten Island b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B500-4B1B-4672-B632-7096DBD2E1F7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AAB4-36E5-42C4-99FC-9A5338951D2E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TA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cost of revenue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15¢ cost per revenue dollar col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 fare payment across modes &amp;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antially reduce cash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up performance at turnstiles &amp; farebo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up bus boarding and reduce dwell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-p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75BF-4E9D-4AA5-B647-8AEDE04749C1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re payment c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-based, not card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like E-Z Pass, less like Metro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 may reside with bank, MTA, mobile phone network or other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y 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r ent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ustomer wil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ot swipe, at readers on turnstiles and farebo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p contactless credit/debit card, prepaid card, phone or MTA 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579C-7F9D-47AA-9CF2-5F1AC187C2F6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re payment concept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courage customers to self-serve on-line, at ATMs and kiosks, and via widespread external network of retail merch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rage existing payment industry infrastructure, products and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relatively inexpensive and commercially available off-the-shelf-hardware and 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licable to all modes and ag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gencies involved in concept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gencies have or will have pi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FBC0-06A1-4840-BF44-2D2145B399B9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ter railroad pil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pilot for each LIRR and MN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board and off-board pay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s test handheld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lots commence in 1Q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AB68-5B64-44C2-A459-51D6B35B13D1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lide Number Placeholder 5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4A2A-D1C6-4E45-A28E-6F2AE2BAD5EC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stry outre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45720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5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3892-FAC5-41A1-A99E-983986E34C95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stry outreach: Suppl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espread industry interest about this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10: 150 representatives from 80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ment industry including banks and other issuers, card brands, acqui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integ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 manufactu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less network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re collection system 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ervice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Slide Number Placeholder 5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9674-D866-42ED-B7B2-74120AB2B246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ustry outreach: Transit author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implementations of open pay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don (Tf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t Lake City (U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lose contact with major US transit systems that are procuring open payment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with regional partners on seamless intermodal tra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J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YNJ/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8:28:26Z</dcterms:created>
  <dc:creator>Amy Linden</dc:creator>
  <dc:description/>
  <dc:language>en-US</dc:language>
  <cp:lastModifiedBy>Amy Linden</cp:lastModifiedBy>
  <cp:lastPrinted>2011-05-17T22:27:13Z</cp:lastPrinted>
  <dcterms:modified xsi:type="dcterms:W3CDTF">2011-05-19T17:45:26Z</dcterms:modified>
  <cp:revision>458</cp:revision>
  <dc:subject/>
  <dc:title>New Fare Payment Systems</dc:title>
</cp:coreProperties>
</file>